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CE9-C8F6-451B-AAE6-60638C5B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F2F-F202-443F-A39B-038C34B3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F4C-DBE5-4B6C-9436-3FEC9504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157-537F-4E4E-9467-CA600100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E2E4-02B8-4F3D-B9B4-584B177B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EBC1-8D73-4E10-A3A5-B06956FE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2172-0508-41E9-B375-834290F5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2623-8D63-47A8-A2CA-2E52393E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A39E-EB50-4E14-BB65-B886C1F8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3E16-F3BB-4F3B-8E08-07C6CCFD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60FD-1270-4E12-BA9B-10B969FF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984-9D87-422A-9FDF-2E9E4F20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1AB7-52B8-420B-B29E-C85BFCFA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CCFF-E4DB-4C1F-ABAB-CEF79E7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DE29-50CC-4646-92AF-B25A6EF4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F809-3886-4B43-BFBE-26D71CB6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6574-EBF7-48CA-B517-F64823ED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FFC8-5AA8-4B0F-9CDB-0645DFE5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479F-EB09-433C-9945-9EE54F2A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40FE-78E7-454E-BA01-7ADBA9D5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E449-2293-47D5-A40F-548C27B7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EED5-F618-439B-A08F-A79CFA4D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3C2-024B-47E8-8636-D3415299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7482-45A3-4555-972D-3B523859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3B9F-50C0-4FE1-8E1C-CD3FF63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6A0E-951E-4C81-AE10-13604963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7C03-4700-4FF3-A82F-A7B2CA5A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1EE9-1AEC-4778-B470-D0A5737A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A426B-4BF8-43C3-A128-813DBC25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2EBF8-5CFD-417A-B12D-E12B63EA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3963-AF62-489A-9B2F-069331EF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F2091-E8D6-4910-9ABB-A9B67C82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4C0E-0267-4B2B-87C6-25A90536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88A-42B5-47EF-9650-192F7EBA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8982-717A-4212-94E1-26178FF9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4636-CC8F-4407-9A22-FC2A1AF7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4DF2C-7B43-4BC3-A6E5-61E28FB3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531B9-EB6D-46CD-80EB-8F65F89F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6B18-FCD2-4178-B54A-87317A2F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4898-6B7B-41FD-971B-81454527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D6C0-83AC-4363-B4F4-9E00663D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C6AE-5678-4AB7-B601-A6D97BAB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E9DA-9C15-459E-BE4E-A70D043F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2CC3-DBF8-477F-B8D2-86D0514E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594-BA13-4EBE-B91B-1D9CF20C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EE852-BB99-487F-959D-52E50465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900EA-BEC8-4F7A-AC7B-BDE4A46E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0165-FFD9-48EC-A860-B523A765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51ABE-EC13-4550-B3C4-D02EFCC6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EC27E-856F-45E6-8E7B-6DF88CFC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1AFA-1ED6-4442-A9BF-CAE68D2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E3917-657A-4876-935E-81A4C12C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617D4-DE49-4C06-BF0F-E8221759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008E8-850C-4AB3-9694-F1D6322B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A03C2-8B0D-463C-BA52-76D0189A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6CE-117C-4D3B-A05D-ED355B77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04296-832A-4DA7-BC99-8D022878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FF155-10AB-4854-9AA9-F4A1E343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5AF84-7B5F-44F4-802F-1F94CC5F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1931-C898-45F3-A7BF-57402204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76A37-0AD5-4EC7-9708-599D822B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A92C-FE1B-4393-AC38-306B1FC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8023-C6A3-4E02-836B-FAB3A85D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79C3A-75BA-435D-92DD-2F091D41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66A5-ABAB-497E-AE8B-A3E4061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2B415-389E-4352-8C42-D16F7D4D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6CC-A11E-4133-BF9D-5A042E77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93760-F9E4-4912-9817-619E0451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3F70-784E-446B-BEBF-046D402E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C16AB-068D-4A80-90E4-D4155D7B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44B-F431-472D-9AB5-1EB9438A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CF0-0DCD-4956-A41B-7721C590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5CFC-AE6C-4EF8-9CD4-98A464958DC5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2E57-D641-46AA-9F6C-D0D6D1EB0335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77B8-B2C8-4763-A845-7E9E4D036757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2DF9-0CD9-41E8-AE48-40DAE26C48FE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ECA2-25A0-43D8-B1B7-DA672ED5D4D7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1CEC-FBF7-43E0-925D-A182D5C5E693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Plan_unitate/Unit_Plan_Template_RO.doc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sisten&#355;&#259;_unitate/bro&#351;ura%20nou.pub" TargetMode="External"/><Relationship Id="rId2" Type="http://schemas.openxmlformats.org/officeDocument/2006/relationships/hyperlink" Target="file:///Asisten&#355;&#259;_unitate/Prezentare%20model%20cinderella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valuare/Test%20ini&#355;ial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408960" y="-21960"/>
            <a:ext cx="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"/>
          <p:cNvSpPr/>
          <p:nvPr/>
        </p:nvSpPr>
        <p:spPr>
          <a:xfrm>
            <a:off x="1348920" y="1143000"/>
            <a:ext cx="6584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ff"/>
                </a:solidFill>
                <a:latin typeface="Tekton Pro"/>
              </a:rPr>
              <a:t>Poveşti</a:t>
            </a:r>
            <a:r>
              <a:rPr b="1" lang="ro-RO" sz="3200" spc="-1" strike="noStrike">
                <a:solidFill>
                  <a:srgbClr val="0000ff"/>
                </a:solidFill>
                <a:latin typeface="Tekton Pro"/>
              </a:rPr>
              <a:t> </a:t>
            </a:r>
            <a:r>
              <a:rPr b="1" lang="ro-RO" sz="4000" spc="-1" strike="noStrike">
                <a:solidFill>
                  <a:srgbClr val="0000ff"/>
                </a:solidFill>
                <a:latin typeface="Tekton Pro"/>
              </a:rPr>
              <a:t>pentru noi, copi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ff"/>
                </a:solidFill>
                <a:latin typeface="Tekton Pr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801000" y="2071800"/>
            <a:ext cx="497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CLA SA  A  VI-A  B, ANUL  IV DE STUD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NUM</a:t>
            </a: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ĂR  ORE ALOCATE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PROFESOR  SIMONFI  IMOLA - J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ugly_duckling_small.jpg"/>
          <p:cNvPicPr/>
          <p:nvPr/>
        </p:nvPicPr>
        <p:blipFill>
          <a:blip r:embed="rId1"/>
          <a:stretch/>
        </p:blipFill>
        <p:spPr>
          <a:xfrm>
            <a:off x="188136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églalap 1"/>
          <p:cNvSpPr/>
          <p:nvPr/>
        </p:nvSpPr>
        <p:spPr>
          <a:xfrm>
            <a:off x="3154320" y="571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ory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Kép 2" descr="P1010356.JPG"/>
          <p:cNvPicPr/>
          <p:nvPr/>
        </p:nvPicPr>
        <p:blipFill>
          <a:blip r:embed="rId1"/>
          <a:stretch/>
        </p:blipFill>
        <p:spPr>
          <a:xfrm>
            <a:off x="642960" y="1143000"/>
            <a:ext cx="7977240" cy="550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2437200" y="571680"/>
            <a:ext cx="462636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BIBLIOGRAFIE, RESURSE 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zövegdoboz 2"/>
          <p:cNvSpPr/>
          <p:nvPr/>
        </p:nvSpPr>
        <p:spPr>
          <a:xfrm>
            <a:off x="581040" y="15717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ibliogra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zövegdoboz 3"/>
          <p:cNvSpPr/>
          <p:nvPr/>
        </p:nvSpPr>
        <p:spPr>
          <a:xfrm>
            <a:off x="4665240" y="1500120"/>
            <a:ext cx="37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Wikiul clas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://fablesenglish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zövegdoboz 4"/>
          <p:cNvSpPr/>
          <p:nvPr/>
        </p:nvSpPr>
        <p:spPr>
          <a:xfrm>
            <a:off x="3080880" y="257184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Ă MULŢUM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Kép 5" descr="P1010357.JPG"/>
          <p:cNvPicPr/>
          <p:nvPr/>
        </p:nvPicPr>
        <p:blipFill>
          <a:blip r:embed="rId1"/>
          <a:stretch/>
        </p:blipFill>
        <p:spPr>
          <a:xfrm>
            <a:off x="1857240" y="3000240"/>
            <a:ext cx="4857840" cy="3857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Kép 1" descr="P1010351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371" name="Kép 2" descr="P1010354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372" name="Kép 3" descr="P1010355.JPG"/>
          <p:cNvPicPr/>
          <p:nvPr/>
        </p:nvPicPr>
        <p:blipFill>
          <a:blip r:embed="rId3"/>
          <a:stretch/>
        </p:blipFill>
        <p:spPr>
          <a:xfrm>
            <a:off x="0" y="3500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373" name="Kép 4" descr="P1010342.JPG"/>
          <p:cNvPicPr/>
          <p:nvPr/>
        </p:nvPicPr>
        <p:blipFill>
          <a:blip r:embed="rId4"/>
          <a:stretch/>
        </p:blipFill>
        <p:spPr>
          <a:xfrm>
            <a:off x="5000760" y="3500280"/>
            <a:ext cx="4143240" cy="3106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2786040" y="42876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rebuchet MS"/>
              </a:rPr>
              <a:t>Poveşti pentru noi, copi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428760" y="1214280"/>
            <a:ext cx="73562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70c0"/>
                </a:solidFill>
                <a:latin typeface="Georgia"/>
              </a:rPr>
              <a:t>Întrebări esenţiale pentru no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Cum m-aş putea cunoaşte mai bine şi cum aş putea înţelege lumea înconjurătoa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Cum crează scriitorii lumea fabulel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În ce măsură este literatura relevantă pentru felul în care trăim, gândim şi acţionă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70c0"/>
                </a:solidFill>
                <a:latin typeface="Georgia"/>
              </a:rPr>
              <a:t>Întrebare esenţială  a unităţi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ahoma"/>
              </a:rPr>
              <a:t>Cât de greu poate fi, să scriem poveşti în limba englez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Georgia"/>
              </a:rPr>
              <a:t>Întrebări de conţin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rebuchet MS"/>
              </a:rPr>
              <a:t>Care sunt trăsăturile secifice ale unei fabu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rebuchet MS"/>
              </a:rPr>
              <a:t>Care sunt elementele care disting o fabulă de o poves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rebuchet MS"/>
              </a:rPr>
              <a:t>Cum se aseamănă animalele vorbitoare cu oamenii din jurul nostr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rebuchet MS"/>
              </a:rPr>
              <a:t>Care sunt trăsăturile unui personaj fantas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Cum  planificăm  o poveste sau  un basm / fabul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Three-Little-Pigs3.jpg"/>
          <p:cNvPicPr/>
          <p:nvPr/>
        </p:nvPicPr>
        <p:blipFill>
          <a:blip r:embed="rId1"/>
          <a:stretch/>
        </p:blipFill>
        <p:spPr>
          <a:xfrm>
            <a:off x="4714920" y="3882960"/>
            <a:ext cx="4429080" cy="2975040"/>
          </a:xfrm>
          <a:prstGeom prst="rect">
            <a:avLst/>
          </a:prstGeom>
          <a:ln w="0">
            <a:noFill/>
          </a:ln>
        </p:spPr>
      </p:pic>
      <p:sp>
        <p:nvSpPr>
          <p:cNvPr id="319" name="Szövegdoboz 4"/>
          <p:cNvSpPr/>
          <p:nvPr/>
        </p:nvSpPr>
        <p:spPr>
          <a:xfrm>
            <a:off x="7083000" y="10717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Planul unită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834840" y="500040"/>
            <a:ext cx="4138560" cy="52056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COMPETENŢE  VIZ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25800" y="1143000"/>
            <a:ext cx="847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Alcătuirea unor enunțuri orale simple, ca răspunsuri la întrebă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Integrarea unor cuvinte noi în enunţuri prop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Producerea unor enunţuri simple, cu support verbal sau vizual, despre sin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persoane/ activităţi din universul imed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Desprinderea unor informaţii particulare dintr-un text scurt, conţinând lex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cunoscut, citit în gâ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Executarea unor indicaţii scrise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Redactarea unor mesaje simple pe baza unor cuvinte de sprij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122040" y="4000680"/>
            <a:ext cx="827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levii vor fi capabili s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să recunoască personajele principale şi să le desc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facă referire la charactristicile personajelor luate din characteristic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pecifice um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alcătuiască finaluri alternative poveştilor/fabulelor stu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 alcătuiască fabule, poveşti lucrînd în echipă în limba engle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lcătuiască fabule în perechi, şi poate chiar pe cont propriu în lim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ngle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642960" y="3500280"/>
            <a:ext cx="6143760" cy="52056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OBIECTIVE  OPERAŢION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3793320" y="500040"/>
            <a:ext cx="2197080" cy="45972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ACTIVITĂŢI   </a:t>
            </a: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378000" y="150012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ff"/>
                </a:solidFill>
                <a:latin typeface="Trebuchet MS"/>
              </a:rPr>
              <a:t>PREGĂTIRE  PENTRU  DESFĂŞURAREA  PROIECTULU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280800" y="2000160"/>
            <a:ext cx="85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Test de evaluare iniţială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Brainstorming pe tema  părţilor componente,  cracteristicele  basm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i a fabulelor,  scopul educativ al fabulelor, şi al importanţei lor în viaţ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opii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34320" y="392904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ff"/>
                </a:solidFill>
                <a:latin typeface="Trebuchet MS"/>
              </a:rPr>
              <a:t>ÎN TIMPUL  DERULĂRII  PROIECTULU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303120" y="4357800"/>
            <a:ext cx="8832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66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rea planului proiectului, împărţirea pe grupe, explicarea mod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ucru, precizarea modalităţilor de evaluare a proiectulu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parcursul derulării proiectului se va monitoriza progresul făcut de ele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discuţii pentru a vedea ce elevi au nevoie de îndrumări suplim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"/>
          <p:cNvSpPr/>
          <p:nvPr/>
        </p:nvSpPr>
        <p:spPr>
          <a:xfrm>
            <a:off x="3605400" y="500040"/>
            <a:ext cx="166500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ACTIVITĂŢ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9440" y="1571760"/>
            <a:ext cx="918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orgia"/>
              </a:rPr>
              <a:t>Ulterior finalizării activităţii pentru pro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La terminarea proiectului elevii vor arăta colegilor  poveştile  şi desenele  realizate, v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iscuta  deschis despre ele (feedback), vor discuta despre eventualele lipsuri ş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Modalităţi  de îmbunătăţire a proiectel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Profesorul va evalua  poveştile şi  desenele elevilo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192240" y="3214800"/>
            <a:ext cx="405612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Detalii  ale unităţii de învăţ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342360" y="4073400"/>
            <a:ext cx="78415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Georgia"/>
              </a:rPr>
              <a:t>Pregătirea pentru unitatea de învăţare – 1  o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Se prezintă elevilor  </a:t>
            </a:r>
            <a:r>
              <a:rPr b="0" lang="ro-RO" sz="2000" spc="-1" strike="noStrike" u="sng">
                <a:solidFill>
                  <a:srgbClr val="ad1f1f"/>
                </a:solidFill>
                <a:uFillTx/>
                <a:latin typeface="Times New Roman"/>
                <a:hlinkClick r:id="rId1"/>
              </a:rPr>
              <a:t>broşura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 alcătuită de mine şi  </a:t>
            </a:r>
            <a:r>
              <a:rPr b="0" lang="ro-RO" sz="2000" spc="-1" strike="noStrike" u="sng">
                <a:solidFill>
                  <a:srgbClr val="ad1f1f"/>
                </a:solidFill>
                <a:uFillTx/>
                <a:latin typeface="Times New Roman"/>
                <a:hlinkClick r:id="rId2"/>
              </a:rPr>
              <a:t>exemplul 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creat d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perspectiva elevului. Elevii vor da şi testul  de  evaluare  iniţial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2462400" y="428760"/>
            <a:ext cx="413532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Conţinutul unităţii de învăţare</a:t>
            </a:r>
            <a:r>
              <a:rPr b="0" lang="ro-RO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TextBox 2" descr=""/>
          <p:cNvPicPr/>
          <p:nvPr/>
        </p:nvPicPr>
        <p:blipFill>
          <a:blip r:embed="rId1"/>
          <a:stretch/>
        </p:blipFill>
        <p:spPr>
          <a:xfrm>
            <a:off x="328680" y="1378080"/>
            <a:ext cx="1987560" cy="5173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7"/>
          <p:cNvSpPr/>
          <p:nvPr/>
        </p:nvSpPr>
        <p:spPr>
          <a:xfrm>
            <a:off x="421560" y="1928880"/>
            <a:ext cx="326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660033"/>
                </a:solidFill>
                <a:uFillTx/>
                <a:latin typeface="Trebuchet MS"/>
              </a:rPr>
              <a:t>The Hares and the Fr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TextBox 8" descr=""/>
          <p:cNvPicPr/>
          <p:nvPr/>
        </p:nvPicPr>
        <p:blipFill>
          <a:blip r:embed="rId2"/>
          <a:stretch/>
        </p:blipFill>
        <p:spPr>
          <a:xfrm>
            <a:off x="401760" y="2517840"/>
            <a:ext cx="1609560" cy="7984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"/>
          <p:cNvSpPr/>
          <p:nvPr/>
        </p:nvSpPr>
        <p:spPr>
          <a:xfrm>
            <a:off x="464400" y="3071880"/>
            <a:ext cx="4030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660033"/>
                </a:solidFill>
                <a:uFillTx/>
                <a:latin typeface="Trebuchet MS"/>
              </a:rPr>
              <a:t>The man and the wooden God</a:t>
            </a: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6"/>
          <p:cNvSpPr/>
          <p:nvPr/>
        </p:nvSpPr>
        <p:spPr>
          <a:xfrm>
            <a:off x="564480" y="4143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9" descr="HARES.jpg"/>
          <p:cNvPicPr/>
          <p:nvPr/>
        </p:nvPicPr>
        <p:blipFill>
          <a:blip r:embed="rId3"/>
          <a:stretch/>
        </p:blipFill>
        <p:spPr>
          <a:xfrm>
            <a:off x="5715000" y="1143000"/>
            <a:ext cx="3201840" cy="2714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1" descr="WOODEN GOD.JPG"/>
          <p:cNvPicPr/>
          <p:nvPr/>
        </p:nvPicPr>
        <p:blipFill>
          <a:blip r:embed="rId4"/>
          <a:stretch/>
        </p:blipFill>
        <p:spPr>
          <a:xfrm>
            <a:off x="428760" y="3629160"/>
            <a:ext cx="1643040" cy="3228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2" descr="wooden-idol_2.jpg"/>
          <p:cNvPicPr/>
          <p:nvPr/>
        </p:nvPicPr>
        <p:blipFill>
          <a:blip r:embed="rId5"/>
          <a:stretch/>
        </p:blipFill>
        <p:spPr>
          <a:xfrm>
            <a:off x="2643120" y="3643200"/>
            <a:ext cx="2700360" cy="3214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extBox 1" descr=""/>
          <p:cNvPicPr/>
          <p:nvPr/>
        </p:nvPicPr>
        <p:blipFill>
          <a:blip r:embed="rId1"/>
          <a:stretch/>
        </p:blipFill>
        <p:spPr>
          <a:xfrm>
            <a:off x="189000" y="1090440"/>
            <a:ext cx="1603440" cy="7988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302400" y="1571760"/>
            <a:ext cx="59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două poveşti rescrise de către copii: </a:t>
            </a:r>
            <a:r>
              <a:rPr b="1" lang="ro-RO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vi-VN" sz="2000" spc="-1" strike="noStrike" u="sng">
                <a:solidFill>
                  <a:srgbClr val="660033"/>
                </a:solidFill>
                <a:uFillTx/>
                <a:latin typeface="Times New Roman"/>
              </a:rPr>
              <a:t>The ugly duck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TextBox 4" descr=""/>
          <p:cNvPicPr/>
          <p:nvPr/>
        </p:nvPicPr>
        <p:blipFill>
          <a:blip r:embed="rId2"/>
          <a:stretch/>
        </p:blipFill>
        <p:spPr>
          <a:xfrm>
            <a:off x="189000" y="2011320"/>
            <a:ext cx="4011480" cy="530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2007UglyDuckling.jpg"/>
          <p:cNvPicPr/>
          <p:nvPr/>
        </p:nvPicPr>
        <p:blipFill>
          <a:blip r:embed="rId3"/>
          <a:stretch/>
        </p:blipFill>
        <p:spPr>
          <a:xfrm>
            <a:off x="0" y="2857680"/>
            <a:ext cx="4429080" cy="340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ugly_duck.jpg"/>
          <p:cNvPicPr/>
          <p:nvPr/>
        </p:nvPicPr>
        <p:blipFill>
          <a:blip r:embed="rId4"/>
          <a:stretch/>
        </p:blipFill>
        <p:spPr>
          <a:xfrm>
            <a:off x="8031240" y="0"/>
            <a:ext cx="1112760" cy="1774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three-little-pigs.jpg"/>
          <p:cNvPicPr/>
          <p:nvPr/>
        </p:nvPicPr>
        <p:blipFill>
          <a:blip r:embed="rId5"/>
          <a:stretch/>
        </p:blipFill>
        <p:spPr>
          <a:xfrm>
            <a:off x="4500720" y="3189240"/>
            <a:ext cx="4643280" cy="3668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églalap 1" descr=""/>
          <p:cNvPicPr/>
          <p:nvPr/>
        </p:nvPicPr>
        <p:blipFill>
          <a:blip r:embed="rId1"/>
          <a:stretch/>
        </p:blipFill>
        <p:spPr>
          <a:xfrm>
            <a:off x="371520" y="1249200"/>
            <a:ext cx="1208160" cy="414360"/>
          </a:xfrm>
          <a:prstGeom prst="rect">
            <a:avLst/>
          </a:prstGeom>
          <a:ln w="0">
            <a:noFill/>
          </a:ln>
        </p:spPr>
      </p:pic>
      <p:sp>
        <p:nvSpPr>
          <p:cNvPr id="349" name="Szövegdoboz 2"/>
          <p:cNvSpPr/>
          <p:nvPr/>
        </p:nvSpPr>
        <p:spPr>
          <a:xfrm>
            <a:off x="441360" y="164304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iscu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ii, brainst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Téglalap 3" descr=""/>
          <p:cNvPicPr/>
          <p:nvPr/>
        </p:nvPicPr>
        <p:blipFill>
          <a:blip r:embed="rId2"/>
          <a:stretch/>
        </p:blipFill>
        <p:spPr>
          <a:xfrm>
            <a:off x="444600" y="2109960"/>
            <a:ext cx="1208160" cy="407880"/>
          </a:xfrm>
          <a:prstGeom prst="rect">
            <a:avLst/>
          </a:prstGeom>
          <a:ln w="0">
            <a:noFill/>
          </a:ln>
        </p:spPr>
      </p:pic>
      <p:sp>
        <p:nvSpPr>
          <p:cNvPr id="351" name="Szövegdoboz 4"/>
          <p:cNvSpPr/>
          <p:nvPr/>
        </p:nvSpPr>
        <p:spPr>
          <a:xfrm>
            <a:off x="519120" y="257184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realizarea planului fabulei / basm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Téglalap 5" descr=""/>
          <p:cNvPicPr/>
          <p:nvPr/>
        </p:nvPicPr>
        <p:blipFill>
          <a:blip r:embed="rId3"/>
          <a:stretch/>
        </p:blipFill>
        <p:spPr>
          <a:xfrm>
            <a:off x="444600" y="2968560"/>
            <a:ext cx="1208160" cy="407880"/>
          </a:xfrm>
          <a:prstGeom prst="rect">
            <a:avLst/>
          </a:prstGeom>
          <a:ln w="0">
            <a:noFill/>
          </a:ln>
        </p:spPr>
      </p:pic>
      <p:sp>
        <p:nvSpPr>
          <p:cNvPr id="353" name="Szövegdoboz 6"/>
          <p:cNvSpPr/>
          <p:nvPr/>
        </p:nvSpPr>
        <p:spPr>
          <a:xfrm>
            <a:off x="604440" y="3643200"/>
            <a:ext cx="63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scrierea basmelor şi realizarea prezentărilor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realizarea story board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2852280" y="571680"/>
            <a:ext cx="365544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UARE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zövegdoboz 4"/>
          <p:cNvSpPr/>
          <p:nvPr/>
        </p:nvSpPr>
        <p:spPr>
          <a:xfrm>
            <a:off x="896040" y="12142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ad1f1f"/>
                </a:solidFill>
                <a:uFillTx/>
                <a:latin typeface="Trebuchet MS"/>
                <a:hlinkClick r:id="rId1"/>
              </a:rPr>
              <a:t>test iniţ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zövegdoboz 6"/>
          <p:cNvSpPr/>
          <p:nvPr/>
        </p:nvSpPr>
        <p:spPr>
          <a:xfrm>
            <a:off x="4040280" y="1285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rebuchet MS"/>
              </a:rPr>
              <a:t>test 2 fantas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zövegdoboz 7"/>
          <p:cNvSpPr/>
          <p:nvPr/>
        </p:nvSpPr>
        <p:spPr>
          <a:xfrm>
            <a:off x="1129680" y="23572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ff"/>
                </a:solidFill>
                <a:uFillTx/>
                <a:latin typeface="Trebuchet MS"/>
              </a:rPr>
              <a:t>Prezentările pps ale elevi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zövegdoboz 8"/>
          <p:cNvSpPr/>
          <p:nvPr/>
        </p:nvSpPr>
        <p:spPr>
          <a:xfrm>
            <a:off x="592920" y="307188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Grup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zövegdoboz 9"/>
          <p:cNvSpPr/>
          <p:nvPr/>
        </p:nvSpPr>
        <p:spPr>
          <a:xfrm>
            <a:off x="2862720" y="31431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Grupa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zövegdoboz 10"/>
          <p:cNvSpPr/>
          <p:nvPr/>
        </p:nvSpPr>
        <p:spPr>
          <a:xfrm>
            <a:off x="4933440" y="307188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a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zövegdoboz 11"/>
          <p:cNvSpPr/>
          <p:nvPr/>
        </p:nvSpPr>
        <p:spPr>
          <a:xfrm>
            <a:off x="6935760" y="31431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a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zövegdoboz 12"/>
          <p:cNvSpPr/>
          <p:nvPr/>
        </p:nvSpPr>
        <p:spPr>
          <a:xfrm>
            <a:off x="3359880" y="371484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28:36Z</dcterms:created>
  <dc:creator>A</dc:creator>
  <dc:description/>
  <dc:language>en-US</dc:language>
  <cp:lastModifiedBy>abc</cp:lastModifiedBy>
  <dcterms:modified xsi:type="dcterms:W3CDTF">2010-02-23T23:49:53Z</dcterms:modified>
  <cp:revision>27</cp:revision>
  <dc:subject/>
  <dc:title>Slide 1</dc:title>
</cp:coreProperties>
</file>